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99A-EDCF-46C4-A578-E9261CDE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7A4-13AB-4A8D-BC0F-CD5A57FD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D4D-7CA2-4960-8026-506C10AC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ED2-7EA8-430C-8462-86D58E7B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E4D-6BB4-4BCE-8CEC-78E98A8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493-4DC4-49A5-AD07-81A2B15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16E-DABF-43DA-B634-43A17CE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21E-8155-43BF-9D6D-EB5A3647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804-0623-4B2A-B9D8-5E4CFD68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9BE-E7EF-40B3-B1BB-5EFFF34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0D6-535B-4BCE-BD7C-8FB7D6C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00C-0038-4F9A-ADE3-EF0BD90E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5424-E38D-4024-95F5-BB191127C9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Título"/>
          <p:cNvSpPr/>
          <p:nvPr/>
        </p:nvSpPr>
        <p:spPr>
          <a:xfrm>
            <a:off x="0" y="1222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级标题（黑体加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48pt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0" y="2166840"/>
            <a:ext cx="914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副标题（黑体</a:t>
            </a:r>
            <a:r>
              <a:rPr b="0" lang="en-US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27pt</a:t>
            </a:r>
            <a:r>
              <a:rPr b="0" lang="zh-CN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021280" y="3967200"/>
            <a:ext cx="32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日（黑体，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Título"/>
          <p:cNvSpPr/>
          <p:nvPr/>
        </p:nvSpPr>
        <p:spPr>
          <a:xfrm>
            <a:off x="971640" y="587520"/>
            <a:ext cx="8042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二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36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 Título"/>
          <p:cNvSpPr/>
          <p:nvPr/>
        </p:nvSpPr>
        <p:spPr>
          <a:xfrm>
            <a:off x="971640" y="1120680"/>
            <a:ext cx="598644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：必须按此模板制作，其他形式无效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>
            <a:off x="969840" y="539640"/>
            <a:ext cx="849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 Marcador de contenido"/>
          <p:cNvSpPr/>
          <p:nvPr/>
        </p:nvSpPr>
        <p:spPr>
          <a:xfrm>
            <a:off x="971640" y="2701800"/>
            <a:ext cx="32446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注或图片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 Marcador de contenido"/>
          <p:cNvSpPr/>
          <p:nvPr/>
        </p:nvSpPr>
        <p:spPr>
          <a:xfrm>
            <a:off x="4927680" y="2673360"/>
            <a:ext cx="3189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注或图片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4883040" y="1039680"/>
            <a:ext cx="3289320" cy="1567080"/>
            <a:chOff x="4883040" y="1039680"/>
            <a:chExt cx="3289320" cy="1567080"/>
          </a:xfrm>
        </p:grpSpPr>
        <p:sp>
          <p:nvSpPr>
            <p:cNvPr id="51" name="51 Rectángulo"/>
            <p:cNvSpPr/>
            <p:nvPr/>
          </p:nvSpPr>
          <p:spPr>
            <a:xfrm>
              <a:off x="4883040" y="1039680"/>
              <a:ext cx="3289320" cy="1567080"/>
            </a:xfrm>
            <a:prstGeom prst="rect">
              <a:avLst/>
            </a:prstGeom>
            <a:solidFill>
              <a:srgbClr val="a6a6a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  <a:ea typeface="Heiti SC Light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图片 7" descr="th-1.jpeg"/>
            <p:cNvPicPr/>
            <p:nvPr/>
          </p:nvPicPr>
          <p:blipFill>
            <a:blip r:embed="rId1">
              <a:lum bright="70000" contrast="-70000"/>
            </a:blip>
            <a:srcRect l="0" t="0" r="0" b="47085"/>
            <a:stretch/>
          </p:blipFill>
          <p:spPr>
            <a:xfrm>
              <a:off x="4971600" y="1106280"/>
              <a:ext cx="311184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9"/>
            <p:cNvSpPr/>
            <p:nvPr/>
          </p:nvSpPr>
          <p:spPr>
            <a:xfrm>
              <a:off x="5276520" y="1506240"/>
              <a:ext cx="244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图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971640" y="1039680"/>
            <a:ext cx="3200400" cy="1567080"/>
            <a:chOff x="971640" y="1039680"/>
            <a:chExt cx="3200400" cy="1567080"/>
          </a:xfrm>
        </p:grpSpPr>
        <p:sp>
          <p:nvSpPr>
            <p:cNvPr id="55" name="42 Rectángulo"/>
            <p:cNvSpPr/>
            <p:nvPr/>
          </p:nvSpPr>
          <p:spPr>
            <a:xfrm>
              <a:off x="971640" y="1039680"/>
              <a:ext cx="3200400" cy="1567080"/>
            </a:xfrm>
            <a:prstGeom prst="rect">
              <a:avLst/>
            </a:prstGeom>
            <a:solidFill>
              <a:srgbClr val="a6a6a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  <a:ea typeface="Heiti SC Light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5" descr="th.jpeg"/>
            <p:cNvPicPr/>
            <p:nvPr/>
          </p:nvPicPr>
          <p:blipFill>
            <a:blip r:embed="rId2">
              <a:lum bright="70000" contrast="-70000"/>
            </a:blip>
            <a:srcRect l="1550" t="11022" r="0" b="10393"/>
            <a:stretch/>
          </p:blipFill>
          <p:spPr>
            <a:xfrm>
              <a:off x="1060200" y="1106280"/>
              <a:ext cx="302292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2"/>
            <p:cNvSpPr/>
            <p:nvPr/>
          </p:nvSpPr>
          <p:spPr>
            <a:xfrm>
              <a:off x="1326960" y="1506240"/>
              <a:ext cx="244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图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Título"/>
          <p:cNvSpPr/>
          <p:nvPr/>
        </p:nvSpPr>
        <p:spPr>
          <a:xfrm>
            <a:off x="971640" y="519120"/>
            <a:ext cx="766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 Marcador de contenido"/>
          <p:cNvSpPr/>
          <p:nvPr/>
        </p:nvSpPr>
        <p:spPr>
          <a:xfrm>
            <a:off x="5283360" y="1019160"/>
            <a:ext cx="283500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图表 3"/>
          <p:cNvGraphicFramePr/>
          <p:nvPr/>
        </p:nvGraphicFramePr>
        <p:xfrm>
          <a:off x="876240" y="933480"/>
          <a:ext cx="3830760" cy="27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图表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933480"/>
                    <a:ext cx="38307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7"/>
          <p:cNvSpPr/>
          <p:nvPr/>
        </p:nvSpPr>
        <p:spPr>
          <a:xfrm>
            <a:off x="792000" y="4157640"/>
            <a:ext cx="382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表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西文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rial 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"/>
          <p:cNvSpPr/>
          <p:nvPr/>
        </p:nvSpPr>
        <p:spPr>
          <a:xfrm>
            <a:off x="792000" y="3787920"/>
            <a:ext cx="32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图中文字黑体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4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Título"/>
          <p:cNvSpPr/>
          <p:nvPr/>
        </p:nvSpPr>
        <p:spPr>
          <a:xfrm>
            <a:off x="971640" y="546120"/>
            <a:ext cx="609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5994360" y="905040"/>
            <a:ext cx="25113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图表 5"/>
          <p:cNvGraphicFramePr/>
          <p:nvPr/>
        </p:nvGraphicFramePr>
        <p:xfrm>
          <a:off x="654120" y="982800"/>
          <a:ext cx="5368680" cy="21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图表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82800"/>
                    <a:ext cx="536868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7"/>
          <p:cNvSpPr/>
          <p:nvPr/>
        </p:nvSpPr>
        <p:spPr>
          <a:xfrm>
            <a:off x="704880" y="3238560"/>
            <a:ext cx="382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表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西文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rial 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701640" y="2774880"/>
            <a:ext cx="32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图中文字黑体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4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927000" y="614520"/>
            <a:ext cx="625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1017720"/>
          <a:ext cx="7200720" cy="3233520"/>
        </p:xfrm>
        <a:graphic>
          <a:graphicData uri="http://schemas.openxmlformats.org/drawingml/2006/table">
            <a:tbl>
              <a:tblPr/>
              <a:tblGrid>
                <a:gridCol w="725400"/>
                <a:gridCol w="3630600"/>
                <a:gridCol w="1911240"/>
                <a:gridCol w="933480"/>
              </a:tblGrid>
              <a:tr h="3888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表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表头字（黑体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8pt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3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3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Título"/>
          <p:cNvSpPr/>
          <p:nvPr/>
        </p:nvSpPr>
        <p:spPr>
          <a:xfrm>
            <a:off x="0" y="2131920"/>
            <a:ext cx="914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致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谢（黑体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48pt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cp:keywords/>
  <dc:language>en-US</dc:language>
  <cp:lastModifiedBy>zhghan</cp:lastModifiedBy>
  <dcterms:modified xsi:type="dcterms:W3CDTF">2020-12-06T07:02:06Z</dcterms:modified>
  <cp:revision>26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