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732-E38B-4F52-83B6-98F74112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334-3444-402B-B40E-4FD2AAA0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BE0-6354-4A23-88F7-44E2FD85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F6A-970F-45BD-BBFC-E3CF21BB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0C7-66F7-4B14-9D77-9051DB9D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AC8-3444-4DEF-A4D1-0D2E28EC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069-F81E-4C94-9652-9E088904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5F1-3C2C-46A1-8158-179B021D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4EA-4C58-4CD1-B442-BB876D67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BDC-0BC6-44E7-B0E1-E09FC750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A6D-3F96-4A46-98EE-DE8F4ED1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1B5-97F4-4847-9A35-46E287F5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EF3B-03B3-4FF6-856B-C7087CB06A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Título"/>
          <p:cNvSpPr/>
          <p:nvPr/>
        </p:nvSpPr>
        <p:spPr>
          <a:xfrm>
            <a:off x="0" y="122220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级标题（黑体加粗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48pt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0" y="2166840"/>
            <a:ext cx="914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副标题（黑体</a:t>
            </a:r>
            <a:r>
              <a:rPr b="0" lang="en-US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27pt</a:t>
            </a:r>
            <a:r>
              <a:rPr b="0" lang="zh-CN" sz="2700" spc="-1" strike="noStrike">
                <a:solidFill>
                  <a:srgbClr val="000000"/>
                </a:solidFill>
                <a:latin typeface="Adobe 黑体 Std R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021280" y="3967200"/>
            <a:ext cx="32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日（黑体，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Título"/>
          <p:cNvSpPr/>
          <p:nvPr/>
        </p:nvSpPr>
        <p:spPr>
          <a:xfrm>
            <a:off x="971640" y="587520"/>
            <a:ext cx="8042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二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36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 Título"/>
          <p:cNvSpPr/>
          <p:nvPr/>
        </p:nvSpPr>
        <p:spPr>
          <a:xfrm>
            <a:off x="971640" y="1120680"/>
            <a:ext cx="598644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文（黑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4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6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注意：必须按此模板制作，其他形式无效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>
            <a:off x="969840" y="539640"/>
            <a:ext cx="849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 Marcador de contenido"/>
          <p:cNvSpPr/>
          <p:nvPr/>
        </p:nvSpPr>
        <p:spPr>
          <a:xfrm>
            <a:off x="971640" y="2701800"/>
            <a:ext cx="32446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注或图片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 Marcador de contenido"/>
          <p:cNvSpPr/>
          <p:nvPr/>
        </p:nvSpPr>
        <p:spPr>
          <a:xfrm>
            <a:off x="4927680" y="2673360"/>
            <a:ext cx="31892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注或图片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4883040" y="1039680"/>
            <a:ext cx="3289320" cy="1567080"/>
            <a:chOff x="4883040" y="1039680"/>
            <a:chExt cx="3289320" cy="1567080"/>
          </a:xfrm>
        </p:grpSpPr>
        <p:sp>
          <p:nvSpPr>
            <p:cNvPr id="51" name="51 Rectángulo"/>
            <p:cNvSpPr/>
            <p:nvPr/>
          </p:nvSpPr>
          <p:spPr>
            <a:xfrm>
              <a:off x="4883040" y="1039680"/>
              <a:ext cx="3289320" cy="1567080"/>
            </a:xfrm>
            <a:prstGeom prst="rect">
              <a:avLst/>
            </a:prstGeom>
            <a:solidFill>
              <a:srgbClr val="a6a6a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图片 7" descr="th-1.jpeg"/>
            <p:cNvPicPr/>
            <p:nvPr/>
          </p:nvPicPr>
          <p:blipFill>
            <a:blip r:embed="rId1">
              <a:lum bright="70000" contrast="-70000"/>
            </a:blip>
            <a:srcRect l="0" t="0" r="0" b="47085"/>
            <a:stretch/>
          </p:blipFill>
          <p:spPr>
            <a:xfrm>
              <a:off x="4971600" y="1106280"/>
              <a:ext cx="311184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9"/>
            <p:cNvSpPr/>
            <p:nvPr/>
          </p:nvSpPr>
          <p:spPr>
            <a:xfrm>
              <a:off x="5276520" y="1506240"/>
              <a:ext cx="244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图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971640" y="1039680"/>
            <a:ext cx="3200400" cy="1567080"/>
            <a:chOff x="971640" y="1039680"/>
            <a:chExt cx="3200400" cy="1567080"/>
          </a:xfrm>
        </p:grpSpPr>
        <p:sp>
          <p:nvSpPr>
            <p:cNvPr id="55" name="42 Rectángulo"/>
            <p:cNvSpPr/>
            <p:nvPr/>
          </p:nvSpPr>
          <p:spPr>
            <a:xfrm>
              <a:off x="971640" y="1039680"/>
              <a:ext cx="3200400" cy="1567080"/>
            </a:xfrm>
            <a:prstGeom prst="rect">
              <a:avLst/>
            </a:prstGeom>
            <a:solidFill>
              <a:srgbClr val="a6a6a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图片 5" descr="th.jpeg"/>
            <p:cNvPicPr/>
            <p:nvPr/>
          </p:nvPicPr>
          <p:blipFill>
            <a:blip r:embed="rId2">
              <a:lum bright="70000" contrast="-70000"/>
            </a:blip>
            <a:srcRect l="1550" t="11022" r="0" b="10393"/>
            <a:stretch/>
          </p:blipFill>
          <p:spPr>
            <a:xfrm>
              <a:off x="1060200" y="1106280"/>
              <a:ext cx="302292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12"/>
            <p:cNvSpPr/>
            <p:nvPr/>
          </p:nvSpPr>
          <p:spPr>
            <a:xfrm>
              <a:off x="1326960" y="1506240"/>
              <a:ext cx="244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图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Título"/>
          <p:cNvSpPr/>
          <p:nvPr/>
        </p:nvSpPr>
        <p:spPr>
          <a:xfrm>
            <a:off x="971640" y="519120"/>
            <a:ext cx="766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 Marcador de contenido"/>
          <p:cNvSpPr/>
          <p:nvPr/>
        </p:nvSpPr>
        <p:spPr>
          <a:xfrm>
            <a:off x="5283360" y="1019160"/>
            <a:ext cx="283500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文（黑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6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图表 3"/>
          <p:cNvGraphicFramePr/>
          <p:nvPr/>
        </p:nvGraphicFramePr>
        <p:xfrm>
          <a:off x="876240" y="933480"/>
          <a:ext cx="3830760" cy="278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图表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933480"/>
                    <a:ext cx="383076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7"/>
          <p:cNvSpPr/>
          <p:nvPr/>
        </p:nvSpPr>
        <p:spPr>
          <a:xfrm>
            <a:off x="792000" y="4157640"/>
            <a:ext cx="3822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表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西文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rial 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7"/>
          <p:cNvSpPr/>
          <p:nvPr/>
        </p:nvSpPr>
        <p:spPr>
          <a:xfrm>
            <a:off x="792000" y="3787920"/>
            <a:ext cx="32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图中文字黑体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4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Título"/>
          <p:cNvSpPr/>
          <p:nvPr/>
        </p:nvSpPr>
        <p:spPr>
          <a:xfrm>
            <a:off x="971640" y="546120"/>
            <a:ext cx="609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5994360" y="905040"/>
            <a:ext cx="251136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文（黑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6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图表 5"/>
          <p:cNvGraphicFramePr/>
          <p:nvPr/>
        </p:nvGraphicFramePr>
        <p:xfrm>
          <a:off x="654120" y="982800"/>
          <a:ext cx="5368680" cy="215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图表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982800"/>
                    <a:ext cx="536868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7"/>
          <p:cNvSpPr/>
          <p:nvPr/>
        </p:nvSpPr>
        <p:spPr>
          <a:xfrm>
            <a:off x="704880" y="3238560"/>
            <a:ext cx="3822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图表说明文字（黑体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西文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rial 18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行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7p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701640" y="2774880"/>
            <a:ext cx="32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图中文字黑体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4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Título"/>
          <p:cNvSpPr/>
          <p:nvPr/>
        </p:nvSpPr>
        <p:spPr>
          <a:xfrm>
            <a:off x="927000" y="614520"/>
            <a:ext cx="625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三级标题（黑体</a:t>
            </a:r>
            <a:r>
              <a:rPr b="1" lang="en-US" sz="2700" spc="-1" strike="noStrike">
                <a:solidFill>
                  <a:srgbClr val="0000ff"/>
                </a:solidFill>
                <a:latin typeface="黑体"/>
                <a:ea typeface="黑体"/>
              </a:rPr>
              <a:t>27pt </a:t>
            </a:r>
            <a:r>
              <a:rPr b="1" lang="zh-CN" sz="27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1017720"/>
          <a:ext cx="7200720" cy="3233520"/>
        </p:xfrm>
        <a:graphic>
          <a:graphicData uri="http://schemas.openxmlformats.org/drawingml/2006/table">
            <a:tbl>
              <a:tblPr/>
              <a:tblGrid>
                <a:gridCol w="725400"/>
                <a:gridCol w="3630600"/>
                <a:gridCol w="1911240"/>
                <a:gridCol w="933480"/>
              </a:tblGrid>
              <a:tr h="3888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表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表头字（黑体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8pt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3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532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表格正文（黑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pt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行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p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Título"/>
          <p:cNvSpPr/>
          <p:nvPr/>
        </p:nvSpPr>
        <p:spPr>
          <a:xfrm>
            <a:off x="0" y="2131920"/>
            <a:ext cx="914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致</a:t>
            </a: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谢（黑体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48pt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cp:keywords/>
  <dc:language>en-US</dc:language>
  <cp:lastModifiedBy>微软用户</cp:lastModifiedBy>
  <dcterms:modified xsi:type="dcterms:W3CDTF">2018-11-30T11:07:03Z</dcterms:modified>
  <cp:revision>25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</Properties>
</file>